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66DD-BF08-4DDD-94B1-B12895D7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9A47-DD60-421C-BCA0-F4E41D32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5462D-8201-491F-AD11-8371E23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D0A6D-2759-4029-9C6D-0D61632F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FE33B4-6D0A-47A5-A494-7F1F6E1D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4F894-1A07-4428-91A0-BFB7EAB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9082F-BB1A-4F2F-9302-E8DC623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5A328-1128-4C5B-A03E-AB67391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E4D30-612B-4424-A97B-B27DC00D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1D2918-05AB-4B3B-A287-701EE8D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6FA6E-27D2-44E8-8A2A-3CF8520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09484-7FDA-4CD5-A58B-6635451D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CB9C-214A-4C01-9340-09C960F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1607F4-7902-4AD7-AFFB-EE5944D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D2F2AD-C796-4E26-940A-E081A608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8DB79F-1781-4D3C-8239-E36ACD0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7B001-5193-434A-B35C-C7ED070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FA0C6-EEB6-4EC3-83E4-2FBB6DF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02606-7B3B-44AC-946F-34784D4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EE298-4132-409A-AC05-6240D30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B5FA2-F86D-42D2-A832-E09E4C68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CCBA4-47FB-4F85-B413-15DC2DE7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211667-90B4-4636-8939-6C874831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7A67-AFF1-47E6-9A0B-CD4EAB01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3B5E9-CDA0-432D-A6D7-6A02767D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9D492D-3D2F-460B-AFED-FFB36290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C0E39E-97C8-421C-9340-9AD0F04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E8BBB-D1B7-4001-80F3-366726A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4BBF8F-974B-49F0-B0A3-65D986E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41630E-67F8-4F69-B7FF-8780C6E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09C54C-809E-4496-8A33-BD16523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40CA0C-6CA4-4821-9BBC-C6C4314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C99811-64DE-42ED-9797-07F2F099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3897C-22ED-4F89-A753-5B36838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7AA-E284-48E8-B285-702279A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45E1FF-78C7-46A5-8DAE-4EBF82F1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9E9E63-3CDC-45E5-B1CF-413BDC01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5F9231-9948-4F6A-A19E-95DB5476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4D6910-CBCC-485E-BB86-2D55EF9D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FC45AA-3F5E-4C9C-8FA5-4BFA9C4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DEA30-8649-4068-8BF2-125003D0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0C39F6-993D-4125-89C3-1721F46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F12697-EFD2-4F61-BF3C-1246F8CA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9E35B1-D293-4013-8EB2-5B121E2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7EEAE2-1AB7-41CB-A058-D30332F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4299-41E9-480B-9F4B-84D73B9A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0E6ADE-D909-4215-8F57-F9611D0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529AB8-D235-4BB6-91B5-77188929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EB4E3C-D988-403B-8886-12417B2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CC1116-72FA-445B-99C9-22D5DAD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EFE66A-076A-4D9C-8BC7-77270E58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7749F4-95F5-4ADC-97FA-053A2204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34358C-E384-452F-89AA-9387081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D2EA3-8C6A-42EA-B76B-380B602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6C78C7-8578-4864-8B25-1E0DF998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05246-8B3A-4152-8A68-A377C01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4FF7-C934-49CF-98FC-AAF973E7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9A7194-077A-44DE-82CF-D2F17EE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830D8C-BFBC-45CF-8C4D-66BBE79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09ADB5-504D-4730-80E6-6CCDBD1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895B9F-C714-47EA-98D0-B40FDA5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4D23D8-125C-40CD-82C7-7327470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7F70C3-07E2-4D69-A47C-925EDEA5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FC8B91-8E9B-475D-B166-17FC8ABD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85B8-42CD-4A28-A1CB-A6EBFF48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954-A990-4796-94B4-5D6E6EC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59C0-D6EE-49E9-9C3A-72E85F63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D93-5D4D-438E-BC6B-74C48F4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7F8A-2322-407F-9C06-64D46A7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AB6D-7A16-432C-AFDA-4B572C3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C87-1EFC-450E-9887-61091A48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E9A-5840-4D08-AE23-18AD3E82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2B1-7841-4286-B3A3-456A7DE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070-0BA1-4668-A43E-125D36D2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F6F1E-D115-4951-A9A4-DDA8D5B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CEEF1-8336-4CE0-AA69-F2E3F3B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5BB71-7D9D-47BF-87FB-EAA473B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C142-E0D5-43DB-846D-2F849C3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0AF46-E670-4CFA-B89B-AC946B3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E68F-DA9C-4726-91A6-42AC4A93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20A9C-EC3F-4091-A518-1DBCE79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8104B-765E-44B0-A119-C1F562B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15E36-7ED2-4C48-9967-EA604AE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A1CDA-D5C2-4633-8CB6-14CEE4E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719DB-4518-4ADF-8314-424955B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08BD0-98C4-4853-A58D-8EE97226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49AF3-AD84-4E55-B5AC-E965FB30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ECD7-9739-4F3E-BE83-2F9889A1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E297-DD2A-42A8-8CA0-E743222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B649-EA58-4EA6-869A-8754668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3AE7-5E52-4494-AAB1-03CC58D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C4D4-45A9-4A02-81CF-0FA97836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8FAB-3173-44BC-BAE4-E7E05D0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051D-75AE-4888-90B5-4ECC526A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FD12-26C3-4A8C-B681-C8233E3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8918-E92C-45FB-8EEC-05EBCB2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E20F7-1755-472F-B453-0A98005A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457D-E572-4F10-B992-536B2723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CAE3-4F9D-43DD-8A74-89A9A06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68FD-D560-4D19-B3F4-6DF1036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EC67A-05A1-4776-9A9B-87A7D11A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AB5B-DC82-464E-AD66-262AF6C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B5792-4213-4574-9CC2-4F28B718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B49E6-01B4-469F-88E5-9E6AEC40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0A105-1736-479C-9394-AF9C014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2053C-7D23-4776-96CD-CE636E3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B5E43-9FB2-4CBC-8096-F7EC35B7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A9C8B-1314-4869-A45D-125C83E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0C614-7D8F-4467-8AFA-A5C49B1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6323A-BED9-48E3-8041-DBE3F9F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03D20-7E3F-42F4-AA45-4684E1E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9413E-2376-4E86-82D3-D3EC78E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E465-D13A-4702-B159-EE881A6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C6109-C300-4573-8644-0C5D2CB7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CC1B-7FF7-4FE4-ADA3-A4CBCD9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A4900-78FF-4F43-BF60-BF5DD2C3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D9393-249B-4214-A52B-019BE3D4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CB3D0-DE87-4198-A998-EB7CF95D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A3F14-A264-42AC-BB30-AF9C3DFC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ED67B-D175-417F-A5E6-C06697E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D9B38-97FF-4727-8A46-EF4ABEF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D6FF0-4B3F-4518-A34D-9482667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EA95-7925-42EF-9F4A-4F1FF8F8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830F5-2D97-443B-906D-5E3E8CF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86467-C5D3-4B43-A97D-2C734667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D5609-AEF8-42A8-BC48-41A79769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66FE1-7695-4FC0-873B-EE331794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5D784-0377-4664-96D2-3BDB156B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ABA21-6334-478E-B4D7-1DA33807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92575-B58F-446B-9F0A-FCE091A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96486-08E5-4F12-AB24-DF08CB8F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11905-1E81-432B-9788-F666902C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A7D410-F73E-4596-905F-C46CB12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AE6A-DB7E-4132-B6E6-5237DF9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2A9998-866C-42B5-AB3E-B61EBD3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F12F6-6A38-4B1B-A306-CA71C65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87A85-A05B-4418-9098-9251CA5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55579-9FF5-45C9-97A5-84F9C30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8299E-4069-4A78-8D2D-EF4F34A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B6423-C45C-4D95-9B91-CB4BDB6F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0F3FE-E71F-4C45-A133-519ECDF1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5129F-823F-4ED5-AD97-95FABD7E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4E3ED2-AC7B-4A66-9180-3148F803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7D70D-65EB-4933-B97A-6004D3F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B0E-69F5-47BD-A509-E5396CD2A971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581-FEE1-4492-9525-F9BD212C92BC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718-D95E-4B3D-B410-7CE0A418E737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8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9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A9B-9B08-4E06-AD3E-B0E72EA0527A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4F4-D6BA-45F4-B1E8-382C10A734CE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7F1B-CFEF-4BC6-94AA-1D3DEE8BFB96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7012-B2B8-4A83-875E-2218DC6FF780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E064-486A-4924-86F9-1D8E8E2E15A9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975-1A8B-400D-8C7D-E9DBFBD1B9AA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5C1-7201-4121-A847-5BD643AE1444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A8C-6CD3-43FE-BA91-B45C68BF4AC2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4B3-0435-4B77-B89C-72794F4FF3F6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B58-989F-4C94-9D4A-5D5DE4919EE6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814-1AB6-460A-B9FC-CBA0197A6767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SlideBevel.png"/>
          <p:cNvPicPr/>
          <p:nvPr/>
        </p:nvPicPr>
        <p:blipFill>
          <a:blip r:embed="rId3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3A6-02ED-4781-8F5E-F3D35FD19DCD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EE40-1822-4D0A-8D9D-E557EF0B36EF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535-B4CD-4AD9-A70C-058FD852714B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625-5F94-447B-BBF1-88F85E340F28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SectionHeader-Bevel.png"/>
          <p:cNvPicPr/>
          <p:nvPr/>
        </p:nvPicPr>
        <p:blipFill>
          <a:blip r:embed="rId3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98FE-D817-4790-BE84-E6BD0B8603DC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C8F-4514-400A-9C4B-31326226DCC8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9A3C-803A-4DE3-AFE3-10A635D03DAF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ComparisonBoxes.png"/>
          <p:cNvPicPr/>
          <p:nvPr/>
        </p:nvPicPr>
        <p:blipFill>
          <a:blip r:embed="rId4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omparisonBoxes.png"/>
          <p:cNvPicPr/>
          <p:nvPr/>
        </p:nvPicPr>
        <p:blipFill>
          <a:blip r:embed="rId5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F72-C059-4B53-A86D-074EBF5B8973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507-7285-4E24-9A58-1FF729437408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AEE-2251-4DBD-B1E0-543864076E10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6F1-8C5F-4FDC-A020-B8E7427D50E0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2" descr=""/>
          <p:cNvPicPr/>
          <p:nvPr/>
        </p:nvPicPr>
        <p:blipFill>
          <a:blip r:embed="rId2"/>
          <a:stretch/>
        </p:blipFill>
        <p:spPr>
          <a:xfrm>
            <a:off x="341280" y="378000"/>
            <a:ext cx="8352000" cy="744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D:\C21 PowerPoint\Multi_Journal\art for blue\Ch21\Ch21-04a.jpg"/>
          <p:cNvPicPr/>
          <p:nvPr/>
        </p:nvPicPr>
        <p:blipFill>
          <a:blip r:embed="rId3"/>
          <a:srcRect l="5598" t="8429" r="0" b="63469"/>
          <a:stretch/>
        </p:blipFill>
        <p:spPr>
          <a:xfrm>
            <a:off x="457200" y="1143000"/>
            <a:ext cx="8229600" cy="2930400"/>
          </a:xfrm>
          <a:prstGeom prst="rect">
            <a:avLst/>
          </a:prstGeom>
          <a:ln w="0">
            <a:noFill/>
          </a:ln>
        </p:spPr>
      </p:pic>
      <p:sp>
        <p:nvSpPr>
          <p:cNvPr id="551" name="Oval 5"/>
          <p:cNvSpPr/>
          <p:nvPr/>
        </p:nvSpPr>
        <p:spPr>
          <a:xfrm>
            <a:off x="38088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553080" y="3352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57200" y="451152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move the original cost of the plant asset and its related accumulated depreciation. Record the cash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457200" y="54864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D:\C21 PowerPoint\Multi_Journal\art for blue\Ch21\Ch21-04b.jpg"/>
          <p:cNvPicPr/>
          <p:nvPr/>
        </p:nvPicPr>
        <p:blipFill>
          <a:blip r:embed="rId3"/>
          <a:srcRect l="18182" t="0" r="0" b="62289"/>
          <a:stretch/>
        </p:blipFill>
        <p:spPr>
          <a:xfrm>
            <a:off x="457200" y="1554120"/>
            <a:ext cx="6248520" cy="3844800"/>
          </a:xfrm>
          <a:prstGeom prst="rect">
            <a:avLst/>
          </a:prstGeom>
          <a:ln w="0">
            <a:noFill/>
          </a:ln>
        </p:spPr>
      </p:pic>
      <p:sp>
        <p:nvSpPr>
          <p:cNvPr id="558" name="Oval 5"/>
          <p:cNvSpPr/>
          <p:nvPr/>
        </p:nvSpPr>
        <p:spPr>
          <a:xfrm>
            <a:off x="4419720" y="2239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6553080" y="2392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590400" y="622620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Section 3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590400" y="5487840"/>
            <a:ext cx="61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the depreciation expens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90400" y="58532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he accumulated depreciation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2"/>
          <p:cNvGrpSpPr/>
          <p:nvPr/>
        </p:nvGrpSpPr>
        <p:grpSpPr>
          <a:xfrm>
            <a:off x="2438280" y="2620800"/>
            <a:ext cx="2895840" cy="2210040"/>
            <a:chOff x="2438280" y="2620800"/>
            <a:chExt cx="2895840" cy="2210040"/>
          </a:xfrm>
        </p:grpSpPr>
        <p:sp>
          <p:nvSpPr>
            <p:cNvPr id="564" name="Line 11"/>
            <p:cNvSpPr/>
            <p:nvPr/>
          </p:nvSpPr>
          <p:spPr>
            <a:xfrm flipH="1">
              <a:off x="2438280" y="2620800"/>
              <a:ext cx="289584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4038480" y="31543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236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3"/>
          <p:cNvSpPr/>
          <p:nvPr/>
        </p:nvSpPr>
        <p:spPr>
          <a:xfrm>
            <a:off x="7344360" y="65826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242560" cy="1128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D:\C21 PowerPoint\Multi_Journal\art for blue\Ch21\Ch21-04c.jpg"/>
          <p:cNvPicPr/>
          <p:nvPr/>
        </p:nvPicPr>
        <p:blipFill>
          <a:blip r:embed="rId3"/>
          <a:srcRect l="4537" t="0" r="0" b="68829"/>
          <a:stretch/>
        </p:blipFill>
        <p:spPr>
          <a:xfrm>
            <a:off x="457200" y="1859040"/>
            <a:ext cx="8229600" cy="2932200"/>
          </a:xfrm>
          <a:prstGeom prst="rect">
            <a:avLst/>
          </a:prstGeom>
          <a:ln w="0">
            <a:noFill/>
          </a:ln>
        </p:spPr>
      </p:pic>
      <p:sp>
        <p:nvSpPr>
          <p:cNvPr id="569" name="Oval 5"/>
          <p:cNvSpPr/>
          <p:nvPr/>
        </p:nvSpPr>
        <p:spPr>
          <a:xfrm>
            <a:off x="45720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6553080" y="4068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57200" y="522756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an entry to remove asset, record gain, and record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457200" y="58975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344360" y="68875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2"/>
          <a:stretch/>
        </p:blipFill>
        <p:spPr>
          <a:xfrm>
            <a:off x="450720" y="396720"/>
            <a:ext cx="8242560" cy="1121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D:\C21 PowerPoint\Multi_Journal\art for blue\Ch21\Ch21-04d.jpg"/>
          <p:cNvPicPr/>
          <p:nvPr/>
        </p:nvPicPr>
        <p:blipFill>
          <a:blip r:embed="rId3"/>
          <a:srcRect l="4537" t="0" r="0" b="72515"/>
          <a:stretch/>
        </p:blipFill>
        <p:spPr>
          <a:xfrm>
            <a:off x="457200" y="1706400"/>
            <a:ext cx="8229600" cy="2638440"/>
          </a:xfrm>
          <a:prstGeom prst="rect">
            <a:avLst/>
          </a:prstGeom>
          <a:ln w="0">
            <a:noFill/>
          </a:ln>
        </p:spPr>
      </p:pic>
      <p:sp>
        <p:nvSpPr>
          <p:cNvPr id="576" name="Oval 5"/>
          <p:cNvSpPr/>
          <p:nvPr/>
        </p:nvSpPr>
        <p:spPr>
          <a:xfrm>
            <a:off x="380880" y="2849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6934320" y="36878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457200" y="50752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an entry to dispose of the asset, record a loss on plant assets, and record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57200" y="57452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00:47:27Z</cp:lastPrinted>
  <dcterms:modified xsi:type="dcterms:W3CDTF">2011-10-17T22:18:49Z</dcterms:modified>
  <cp:revision>63</cp:revision>
  <dc:subject/>
  <dc:title>ADJUSTING ENTRY FOR SUPPLIES</dc:title>
</cp:coreProperties>
</file>